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7BD-B3F0-4831-AB02-9185E910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5B1-321F-4699-B3ED-D87C5392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74F-707C-4EAE-ABFD-22210A53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4ED5-30BE-4F9A-8A85-5AF9154C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EDC-15BF-4D8B-9CDF-4D391EE7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ECE-7EAD-4B23-933B-D41CEA2D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E553-C5B2-4E82-901E-AEE36DA8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EA3-1D95-46A4-B94D-561CB67B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4C05-E34B-44EC-91DE-3B3D5846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29F-8A6C-4725-B372-93088B7E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1F7-9790-41BA-B643-CD5BD480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23F0-0EC2-4310-9CEC-33205801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D98A-EEF2-4575-ACD5-F9B08435E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store.delias.com/item.do?itemID=56101&amp;categoryID=2279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30.jpeg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ff3399"/>
                </a:solidFill>
                <a:latin typeface="Arial"/>
                <a:ea typeface="Arial"/>
              </a:rPr>
              <a:t>La Catálogo de 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2408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♥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Maggie Duich 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pa Para La Primav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5105160"/>
            <a:ext cx="27432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lejandra lleva un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blus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blanca con flores rosadas y azules. Ella lleva un par de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pantalon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azules con un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intur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ón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marrón. Margarita lleva unas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ulsera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de colores. Ella is muy lin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2743200" cy="388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5880" y="3038400"/>
            <a:ext cx="2695680" cy="3819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324480" y="1295280"/>
            <a:ext cx="2210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garita lleva una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amiset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blanca con un su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éter de manga corta blanca. Ella lleva un par d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luejean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lla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de plumas muy bonita. Su traje es muy bonit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pa Para El Veran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3505320"/>
            <a:ext cx="28195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ia lleva un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vestid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lgod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ó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rosado, morado, rojo, blanco, y verde. Ella lleva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andalia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lancas. Alicia lleva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ulsera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mar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ón y gris. Ella es muy bonita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2667240" cy="2174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410080" y="4343400"/>
            <a:ext cx="3395880" cy="2274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14600" y="5105520"/>
            <a:ext cx="2590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ciela lleva un traje de b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ño con rayas rosadas y blancas. Ella lleva un traje de baño con flores rosados y blancos. Lleva un traje de baño rosado tamb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1371600"/>
            <a:ext cx="1371600" cy="1943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72200" y="1676520"/>
            <a:ext cx="2514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ia lleva un par de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luejeans corto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Lleva un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raje de ba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ñ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azul con una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miset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lanca y azul. Ella lleva un par de gafas de sol azules. Me encantar su traje cómo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pa Para El O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228600" y="4571640"/>
            <a:ext cx="3733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talina lleva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un su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é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 raya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de varios colores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 lan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 Ella lleva un par d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luejean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y un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lla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gris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an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tambien. Su traje es muy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ómod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asua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3353040" cy="3230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943600" y="2666880"/>
            <a:ext cx="2744640" cy="3886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867280" y="1066680"/>
            <a:ext cx="2971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ela lleva un par d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luejeans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zules. Ella lleva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una camisill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rosada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in manga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Lleva un su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éter gris y morado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lgodón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 Estela lleva unas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ulsera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de varios col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pa Para El Invie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1981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Eva lleva un </a:t>
            </a:r>
            <a:r>
              <a:rPr b="1" lang="en-US" sz="1200" spc="-1" strike="noStrike" u="sng">
                <a:solidFill>
                  <a:srgbClr val="cc0066"/>
                </a:solidFill>
                <a:uFillTx/>
                <a:latin typeface="Arial"/>
              </a:rPr>
              <a:t>abrigo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 rojo con botones negro.  Lleva un par de </a:t>
            </a:r>
            <a:r>
              <a:rPr b="1" lang="en-US" sz="1200" spc="-1" strike="noStrike" u="sng">
                <a:solidFill>
                  <a:srgbClr val="cc0066"/>
                </a:solidFill>
                <a:uFillTx/>
                <a:latin typeface="Arial"/>
              </a:rPr>
              <a:t>bluejeans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 y </a:t>
            </a:r>
            <a:r>
              <a:rPr b="1" lang="en-US" sz="1200" spc="-1" strike="noStrike" u="sng">
                <a:solidFill>
                  <a:srgbClr val="cc0066"/>
                </a:solidFill>
                <a:uFillTx/>
                <a:latin typeface="Arial"/>
              </a:rPr>
              <a:t>bufanda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 boni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81480" y="2616120"/>
            <a:ext cx="3962520" cy="3327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1600200"/>
            <a:ext cx="307512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114800" y="6004080"/>
            <a:ext cx="2286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Carmen lleva un par de bluejeans con un par de tenis negro. Ella lleva una camisa morado algod</a:t>
            </a:r>
            <a:r>
              <a:rPr b="1" lang="en-US" sz="1000" spc="-1" strike="noStrike">
                <a:solidFill>
                  <a:srgbClr val="cc0066"/>
                </a:solidFill>
                <a:latin typeface="Arial"/>
                <a:ea typeface="Arial"/>
              </a:rPr>
              <a:t>ón</a:t>
            </a: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 y un chaqueta gris de lana. Lleva un sombrero blanco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*ACCESORIOS*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129528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Las gafas de s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733920" y="3505320"/>
            <a:ext cx="1371600" cy="1068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752840" cy="1036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105520" y="17524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2590920" y="175248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6477120" y="1752480"/>
            <a:ext cx="1218960" cy="92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7772400" y="1752480"/>
            <a:ext cx="112536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7772400" y="152280"/>
            <a:ext cx="112536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1371600" y="1752480"/>
            <a:ext cx="1062000" cy="129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152280" y="1752480"/>
            <a:ext cx="1038240" cy="1265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3962520" y="1752480"/>
            <a:ext cx="1000080" cy="1219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2"/>
          <a:stretch/>
        </p:blipFill>
        <p:spPr>
          <a:xfrm>
            <a:off x="152280" y="3276720"/>
            <a:ext cx="1187640" cy="1447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3"/>
          <a:stretch/>
        </p:blipFill>
        <p:spPr>
          <a:xfrm>
            <a:off x="5257800" y="3505320"/>
            <a:ext cx="1187280" cy="1447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4"/>
          <a:stretch/>
        </p:blipFill>
        <p:spPr>
          <a:xfrm>
            <a:off x="6629400" y="3962520"/>
            <a:ext cx="131112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5"/>
          <a:stretch/>
        </p:blipFill>
        <p:spPr>
          <a:xfrm>
            <a:off x="8077320" y="3962520"/>
            <a:ext cx="874440" cy="1066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6"/>
          <a:stretch/>
        </p:blipFill>
        <p:spPr>
          <a:xfrm>
            <a:off x="1523880" y="3505320"/>
            <a:ext cx="2048040" cy="1047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772400" y="15238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Las gaf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8006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Los calcetin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negros y blan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297180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El sombrer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rojo y blan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29718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El an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2895480"/>
            <a:ext cx="121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El bols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blanco y pl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66688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La bufand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rosada, anaranjada, y ro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04812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s leotardos ros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72400" y="312408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El cintur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ón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negro y plata. Es cu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s Zap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9040" y="152280"/>
            <a:ext cx="2514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as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ta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de lluvia con rojos, rosados, morados, y blancos lunare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809880" y="4629240"/>
            <a:ext cx="148752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934320" y="1143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334120" y="28954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152280" y="12193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5720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as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zapatilla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rosadas y mar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ónes. Son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ómodo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4572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n par de teni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egro y ros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34290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o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zapat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de ta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ón alto           plat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464832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a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ota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 lan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gris con gris bot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4:55:46Z</dcterms:created>
  <dc:creator>duichmar</dc:creator>
  <dc:description/>
  <dc:language>en-US</dc:language>
  <cp:lastModifiedBy>CynthiaButlercompany</cp:lastModifiedBy>
  <dcterms:modified xsi:type="dcterms:W3CDTF">2011-12-15T20:57:57Z</dcterms:modified>
  <cp:revision>19</cp:revision>
  <dc:subject/>
  <dc:title>Slide 1</dc:title>
</cp:coreProperties>
</file>